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8F5-8175-41CB-8A19-49355DDE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ED9-CAF6-4D6D-A780-AC68D014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DCF-3283-4F78-A9C1-E58AC0D4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F73-2C1E-4E55-8AC7-9A52ACB9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83D-1CB4-43B6-8FF5-4BA555AC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35D-607E-43EF-AF6C-D21ECEF2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4D2-F8CD-4C00-89E3-92B2601F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D93-C079-466B-942A-21166C90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244-A27B-409F-8F4C-C1B5FF0A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0A8-BB5A-4A52-A3DD-0830E61A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048-AFED-4DC5-B8FF-E6AE1831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B60-68CF-4AA1-AA18-BB3E5D8D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36CA-AB58-4041-87B4-9D6B51D47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 Essay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Rachel Ke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0" y="533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 of the genr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0" y="1066680"/>
            <a:ext cx="838188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focused on wolves and ther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 audience was Mrs. Arezberger and the GT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mentor text that inspired my work was that animals all over the world are being abused so I had to make a differ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0" y="2209680"/>
            <a:ext cx="66294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riting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thought about my favorite animal and what matters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searched on Google images and put the movie on photo story and thought about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0" y="3962520"/>
            <a:ext cx="56386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had to know were it was and how to do certain things with the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0" y="5181480"/>
            <a:ext cx="6934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ive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earned that I can help the world as 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152280" y="5867280"/>
            <a:ext cx="762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think I used my heart more than my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proud of how fast I finish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as afraid I would never 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ould like to create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7:18:05Z</dcterms:created>
  <dc:creator>ITSUser</dc:creator>
  <dc:description/>
  <dc:language>en-US</dc:language>
  <cp:lastModifiedBy>ITSUser</cp:lastModifiedBy>
  <dcterms:modified xsi:type="dcterms:W3CDTF">2010-02-11T17:44:12Z</dcterms:modified>
  <cp:revision>7</cp:revision>
  <dc:subject/>
  <dc:title>Photo Essay Reflection</dc:title>
</cp:coreProperties>
</file>